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C42-5480-47E6-85A4-5860929E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720-4BD6-4A39-BA8A-355BCDC8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C06-5AE1-4A3B-B2F3-753631C2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356-BA03-43D1-A9B3-A5676CA3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52C4-2FFC-4674-AEDF-FDD534A8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E81D-F9E0-4513-BF9F-8585B45B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0E8B-3510-4829-A461-CFDB28AE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D46B-F737-45B6-BE25-B0D1FC0C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5593-AED4-4D8A-8B41-47419A9D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8439-48AD-4A11-839A-64AA1BDF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DF67-E350-486C-B756-3F1DC21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51E-6F81-4C7F-8214-A76BB0FC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CD89-C712-4CBF-8E4A-C307E08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EE77-FD6A-4E48-BDC1-B6E14E5F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8AE5-5477-4C58-BC8B-12EFB307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9B8-D757-43F6-AC9D-0B3F2027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3AEA-739C-4A0E-AB4D-86617024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0E0-1FE8-4DB6-93D7-6257695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C5B-D58D-45A7-8789-E26EAA2D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7F0-276E-4E45-9EE5-AC5355F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BFC-A441-435F-81FC-2426B608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6E7-EFC8-4360-911C-D03D8C0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8E2-8283-4DB1-8556-E4B2528D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3C6-A6D7-4534-8020-81B5EA82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FEE1FA-45D6-4F4C-B365-34EE8E6A8AC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4E596E-7181-4914-B86F-519489EE2BA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Projectos em Animação Sociocultu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848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71680" y="2143080"/>
            <a:ext cx="80010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lidades soci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inalidades sociais, valores dominantes, estados de opinião que fundamentam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terri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aracterísticas do ambiente territorial (bairro, cidade, região, país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ados demográficos, económicos, sociais com interesse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âmbito territoria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ntre o território e a finalidade d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sec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scrição geral do âmbito de intervenção do projecto (infância, juventude, terceira idade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spectos gerais do âmbito da intervenção que têm importância 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sector de incidênci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íticas sociais, educativas e cultur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olíticas dos diferentes agentes relacionadas com os conteúdos e objectivos do projecto; orientações gerais e modelos predominantes; competências das diferentes administrações públ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 papel do projecto com as polí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cessidades e pedidos problemátic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studo das necessidades sociais e culturais a que o projecto pretende dar respost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agnóstico sobre a problemática a intervir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ipos e níveis de procura social em que o projecto se basei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jectória e objectivos passad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istória, experiência anterior, actividades realizadas, imagem e prestígio, implantação territorial, relações institucionai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rutura form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ma jurídica, estrutura, organigrama, pessoas, funções, capacidade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ncionamento intern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cionamento da organização em termos de comunicação, tomada de decisões, gestão e coordenação, sistemas de planificação e control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ursos disponíve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sponibilidade de recursos humanos (sua qualificação e experiência), económicos e financeiros, infra-estruturais, de coordenação, de informação e conhecimento, de comunicaçã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ros elementos internos a ter em con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Importância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"Quanto melhor conhecermos um território, melhor seremos capazes de realizar um projecto de desenvolvimento bem adaptado. Uma boa identificação dos pontos fortes e fracos da zona (trunfos, vectores de inovação, principais carências, "trancas" ao desenvolvimento, etc.) vai facilitar a construção de uma dinâmica de desenvolvimento duradouro. Este conhecimento vai também permitir uma melhor avaliação dos efeitos do processo de desenvolvimento em curso" (Campagn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t al,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1994: 1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tendências de fundo observáveis no espaço de intervenção no que diz respeito à demografia, economia, alojamento, vida social e cultural, etc.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s demográficas e sociais (idade, sexo e distribuição física da população; taxas de dependência, escolaridade; taxas de nascimento e de mortalidade; emigração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conomia local (estrutura de produção e emprego/desempreg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nfra-estruturas físicas e sociais (transportes, telecomunicações, alojamento, de saneamento e saúde pública, hospitais, instituições de ensino, facilidades recreativas e culturais, etc.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categorias da população mais atingidas pelos problemas sociais, económicos e cultura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iniciativas e os projectos que sejam desde já portadores de inov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"obstáculos" que é preciso ultrapassar e, consequentemente, as acções que será necessário realizar nos domínios social, económico, cultur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envolvente institucional (os organismos intervenientes formal e informalmente constituído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recursos (internos e externos) que será necessário mobilizar para as diferentes acçõ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forças e as fraquezas do conjunto e das diferentes zonas do espaço de interven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imação sociocultural (e o seu planeamento) foram conceptualizados a partir da prática ou a partir duma reflexão centrada na acção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intervenção sociocultural, muito centrada na acção e intervenção activista, descurou, de alguma forma, a programação e planificação prévi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 diagnóstico de um território visa estabelecer o que é preciso saber para agir sobre o espaço de intervenção e reunir as informações necessárias para esse fi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m-se os problemas (assume-se que há necessidades e aspectos a melhorar na realidade sociocultural pelo project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isa-se a evolução prognóstica dos problemas, prevendo-se as repercussões que eles possam vir a ter (Cristovão e Silva, 200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causas dos problemas, os factores de risco associados e as inter-relações que existem entre eles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necessidades reais ou sentidas pelos grupos alv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é-diagnóstico (fase exploratória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agnóstico (recolha e análise da informação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abelecimento de prioridades para a intervenção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ser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larg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profund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cin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rápi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clar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responder às necessidades do próprio processo de planeam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ter como requisitos importantes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scrição preferencialmente quantitativa da situ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conhecimento dos factores que a determina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nálise da sua evolução e perspectiv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valiação — se é ou não satisfató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operacionalizar o diagnóstico (Campagne </a:t>
            </a:r>
            <a:r>
              <a:rPr b="0" i="1" lang="en-GB" sz="20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. (199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r o que é preciso saber para agir sobre uma realidade sociocultur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cidir quais são as metodologias mais bem adaptadas para reunir as informações correspondent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Realizar o processo concreto de recolha da informa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fectuar um tratamento e análise dos dados recolhid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raduzir estas conclusões – ou seja o diagnóstico - em componentes básicas de uma estratégia de interven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orquê 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tirar pleno partido dos conhecimentos, competências, dinâmicas e recursos existentes a nível loc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obter a adesão e o apoio dos actores locais nos esforços conduzidos para a abordagem dos problemas essenciais e soluções possíve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encorajar a "apropriação" local dos projectos de modo a que o desenvolvimento possa ser duradour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Quem deve ser incluído n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grupos específicos a envolver são determinados pelo contexto social e cultural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responsáveis políticos, económicos e associativos locais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membros dos grupos de interesses económicos, sociais e culturais locais: associações de agricultores, de jovens, de idosos, grupos profissionai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no seu conjunto: no trabalho, em casa, na aldeia, no bairro, etc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ocu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quéritos por question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e Consens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Brainstorming (produção de ideias, sem crítica e avaliação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grupo nominal (agregar julgamentos com base na racionalidade/criatividade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Delphi (consenso sobre um tópico, conduzido através de via postal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roximação a informantes-chave (entrevista pessoal a experts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roblem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o grupo al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arcer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enquadramento institu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SW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rna-se necessário conciliar a resposta pontual e próxima com a programação e planificação, que permita trabalhar com uma determinada perspectiva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preciso encontrar alguns referentes que permitam edificar uma metodologia de elaboração de projectos de animação sociocultural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facilitar a compreensão e a utilização da informação obtida, ela pode organizar-se na matriz SWO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É uma técnica sintetizadora e simplificadora do diagnóstic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a análise SWOT (strenghts, weaknesses, opportunities and threats) explicitam-se quais os pontos fortes e fracos duma realidade social específica e as oportunidades e ameaças do meio envolvente a essa re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oportunidades e os pontos fortes correspondem aos aspectos positivos da realidade a melhor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ameaças e os pontos fracos correspondem aos aspectos negativos da realidade a melhorar (constrangimentos políticos e sociais, deficiências estruturais e na dotação de recursos, etc.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e de juízos de valor por parte do analista, que representa mais ou menos explicitamente os interesses específicos locais e/ou extra-locai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ângulo 3"/>
          <p:cNvSpPr/>
          <p:nvPr/>
        </p:nvSpPr>
        <p:spPr>
          <a:xfrm>
            <a:off x="928800" y="2714760"/>
            <a:ext cx="7215120" cy="32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ângulo 4"/>
          <p:cNvSpPr/>
          <p:nvPr/>
        </p:nvSpPr>
        <p:spPr>
          <a:xfrm>
            <a:off x="178596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Stren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ângulo 7"/>
          <p:cNvSpPr/>
          <p:nvPr/>
        </p:nvSpPr>
        <p:spPr>
          <a:xfrm>
            <a:off x="485784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Weakn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ângulo 8"/>
          <p:cNvSpPr/>
          <p:nvPr/>
        </p:nvSpPr>
        <p:spPr>
          <a:xfrm>
            <a:off x="5214960" y="2857680"/>
            <a:ext cx="2214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neg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ângulo 9"/>
          <p:cNvSpPr/>
          <p:nvPr/>
        </p:nvSpPr>
        <p:spPr>
          <a:xfrm>
            <a:off x="2143080" y="2857680"/>
            <a:ext cx="2143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posi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ângulo 10"/>
          <p:cNvSpPr/>
          <p:nvPr/>
        </p:nvSpPr>
        <p:spPr>
          <a:xfrm>
            <a:off x="178596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Opportun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ângulo 11"/>
          <p:cNvSpPr/>
          <p:nvPr/>
        </p:nvSpPr>
        <p:spPr>
          <a:xfrm>
            <a:off x="485784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Thr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ângulo 12"/>
          <p:cNvSpPr/>
          <p:nvPr/>
        </p:nvSpPr>
        <p:spPr>
          <a:xfrm rot="16200000">
            <a:off x="857160" y="3714840"/>
            <a:ext cx="9288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ângulo 13"/>
          <p:cNvSpPr/>
          <p:nvPr/>
        </p:nvSpPr>
        <p:spPr>
          <a:xfrm rot="16200000">
            <a:off x="821160" y="4964400"/>
            <a:ext cx="10004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atisfatório de equipamentos para a prática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municipal de apoio ao fomento da actividade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jove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bundância de recursos hídric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celho atractivo em termos culturais e de laz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46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46640" indent="-56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ctividades económicas com forte probabilidade de expans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sponibilidade por parte do município em garantir a rede de transportes fora do horários do período escol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nâmica já existente do apoio domiciliár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razoável de colectividades no concelho, particularmente direccionadas para a actividade desportiva das camadas mais joven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xistência de fundos nacionais disponíveis para apoio a projectos de qualificação em novas tecnolog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favorável ao fo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do INH para recuperação e construção habitacion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centivo ao Arrendamento Jovem (IA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lano Regional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Agro-Agris, Ruris; Leader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nacionais de apoio à Educação e Formação ao longo da vida para adult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ignificativo de habitações degrad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 espírito empresar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pouco qualificad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a taxa de nat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ência física, psicológica e financeira da população idos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levado desemprego feminin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existência de Centros de No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poio Domiciliário adequado aos vários níveis de dependênci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iciativa por parte da quase totalidade das associações do concelh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ctividades para os jovens e idos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usência de respostas para desempregados e potenciais desempregad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e fundos disponíveis para apoio a projectos de inclusão soc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restritiva sobre contratação de pesso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ntagens de localização para empresas oferecidas por municípios adjac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juntura económico-social desfavoráve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de Imigração pouco favorável à integração de estrangeir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á possível estabelecer uma metodologia própria (Sempere, 2004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s campos de acção, os destinatários, os territórios, as organizações são muito diversa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características individuais e grupais dos recursos humanos dum projecto, nos seus diferentes níveis, têm um peso significativo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diferentes características das organizações (forma jurídica, finalidade social, etc.) condicionam os elementos de constituição duma metodologia e uma forma específica de concretizar as acçõe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centivos Fiscais ou à Criação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medidas nacionais de incentivo ao desenvolvi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s apoios à fixação de empresas no interio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apacidade de atracção de população activa local pelo litoral e grandes centros urban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200016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r vezes, um facto ou fenómeno social pode ter, simultaneamente, aspectos positivos e aspectos negativos (dualismo estrutur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ma infra-estrutura como uma auto-estrada origina efeitos positivos e negativos, normalment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SWOT não deve ser preenchida de forma aleatória; deve-se começar pelo quadrante das fraquezas, seguindo-se o quadrante das forças, das oportunidades e das ameaç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quadrantes não devem ser preenchidos apenas como listagens de informações sem relação directa; a cada ponto fraco deve-se associar um ou mais pontos fortes que o enfrentem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 pode-se também ter a mesma força ligada a mais do que uma fraquez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presentação da situação do projec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stão central e ideia original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ção de todos os problemas individu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lidação ou hierarquização dos problemas expost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grupamentos dos problemas por áreas problemá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Identificação das relações causa-efeito entre esses problem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sulta uma listagem completa dos problemas relevantes e a sua hierarquizaçã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lacionar os problemas uns com os outros e organizá-los em grupos apropriados com titulações específic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É uma representação gráfica da relação de causalidade entre situações a melhorar, problemas e necessidades encontradas, de forma a que seja possível perceber o impacto da resolução de determinadas situações problemáticas noutras situações problemáticas (Pena, 2002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ter uma listagem o mais exaustiva possível de situações a melhorar/problemas do sistema em que a intervenção vai decorr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nvolver os detentores de conhecimento sobre essa realidade, maximizar a participação e o envolvimento no levantamento de problemas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 é toda a situação actual da qual se perspectiva uma situação desejada, uma melhoria possível” (Pena, 2002: 10); são todas as situações que não estão como o desejado pelos elementos do campo de intervençã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ferramentas a usar envolvem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formais e estruturadas “brainstorming”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utras reuniõe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informai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informais  e inquéritos (Pena, 2002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levantados de forma exaustiva devem ser filtrados antes de ser incluídos na listagem: relativizar e suprimir os que não têm significado real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concretos e reais e não relacionados com juízos de valor, suposições ou personalizações da realidade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sustentados e ter relevância e impact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formulados pela negativa (Pena, 2002); por exemplo, excesso de desemprego é melhor do que apenas desemprego; há sempre desemprego; o problema é se ele é considerado, em termos comparativos, excessivo ou n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enunciados de forma sintética evitando situações como: a formulação de dois problemas numa só formulação ou a formulação do problema com a medida já incluída (Pena, 2002); por exemplo, excesso de erros na utilização duma máquina por falta de formação; o melhor é retirar da formulação por falta de form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ção do problema central em cada uma dos clusters de problemas (tronco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ganização dos restantes problemas da nuvem em relação ao problema central; saber se são causas ou efeitos do problema central (raízes e ramos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que estão na parte superior da árvore resultam directamente dos que estão imediatamente abaixo; resolvendo os problemas abaixo podemos esperar um impacto na resolução dos que estão acim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elaboração de projectos está condicionada pelos seguintes nívei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Pessoal-Profissional (contribuições individuais das pessoas e características diferenciadas dos profissionai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Grupal-Equipa (aspectos criativos e ideológicos, critérios e características da equipa)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stitucional-Organizacional (cultura organizativa, opções e objectivos das organizaçõe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ormal-Legal (adequação às normas administrativas e às formas jurídica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ângulo 4"/>
          <p:cNvSpPr/>
          <p:nvPr/>
        </p:nvSpPr>
        <p:spPr>
          <a:xfrm>
            <a:off x="1785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ângulo 9"/>
          <p:cNvSpPr/>
          <p:nvPr/>
        </p:nvSpPr>
        <p:spPr>
          <a:xfrm>
            <a:off x="7072200" y="2357280"/>
            <a:ext cx="92880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fe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ângulo 13"/>
          <p:cNvSpPr/>
          <p:nvPr/>
        </p:nvSpPr>
        <p:spPr>
          <a:xfrm>
            <a:off x="500040" y="4572000"/>
            <a:ext cx="1000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Cau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3857760" y="3786120"/>
            <a:ext cx="192852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ângulo 15"/>
          <p:cNvSpPr/>
          <p:nvPr/>
        </p:nvSpPr>
        <p:spPr>
          <a:xfrm>
            <a:off x="478620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ângulo 17"/>
          <p:cNvSpPr/>
          <p:nvPr/>
        </p:nvSpPr>
        <p:spPr>
          <a:xfrm>
            <a:off x="6357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ângulo 18"/>
          <p:cNvSpPr/>
          <p:nvPr/>
        </p:nvSpPr>
        <p:spPr>
          <a:xfrm>
            <a:off x="4786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ângulo 19"/>
          <p:cNvSpPr/>
          <p:nvPr/>
        </p:nvSpPr>
        <p:spPr>
          <a:xfrm>
            <a:off x="142884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Conexão recta unidireccional 21"/>
          <p:cNvCxnSpPr/>
          <p:nvPr/>
        </p:nvCxnSpPr>
        <p:spPr>
          <a:xfrm flipH="1" flipV="1">
            <a:off x="3214800" y="3642840"/>
            <a:ext cx="643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Conexão recta unidireccional 22"/>
          <p:cNvCxnSpPr/>
          <p:nvPr/>
        </p:nvCxnSpPr>
        <p:spPr>
          <a:xfrm flipV="1">
            <a:off x="5929200" y="3857040"/>
            <a:ext cx="5724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xão recta unidireccional 24"/>
          <p:cNvCxnSpPr/>
          <p:nvPr/>
        </p:nvCxnSpPr>
        <p:spPr>
          <a:xfrm flipV="1">
            <a:off x="5643720" y="378540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Conexão recta unidireccional 26"/>
          <p:cNvCxnSpPr/>
          <p:nvPr/>
        </p:nvCxnSpPr>
        <p:spPr>
          <a:xfrm flipV="1">
            <a:off x="3214800" y="3071160"/>
            <a:ext cx="3578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Conexão recta unidireccional 28"/>
          <p:cNvCxnSpPr/>
          <p:nvPr/>
        </p:nvCxnSpPr>
        <p:spPr>
          <a:xfrm flipV="1">
            <a:off x="249876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exão recta unidireccional 33"/>
          <p:cNvCxnSpPr/>
          <p:nvPr/>
        </p:nvCxnSpPr>
        <p:spPr>
          <a:xfrm flipV="1">
            <a:off x="535788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ângulo 34"/>
          <p:cNvSpPr/>
          <p:nvPr/>
        </p:nvSpPr>
        <p:spPr>
          <a:xfrm>
            <a:off x="1928880" y="4500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ângulo 35"/>
          <p:cNvSpPr/>
          <p:nvPr/>
        </p:nvSpPr>
        <p:spPr>
          <a:xfrm>
            <a:off x="5643720" y="450072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ângulo 36"/>
          <p:cNvSpPr/>
          <p:nvPr/>
        </p:nvSpPr>
        <p:spPr>
          <a:xfrm>
            <a:off x="7142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ângulo 37"/>
          <p:cNvSpPr/>
          <p:nvPr/>
        </p:nvSpPr>
        <p:spPr>
          <a:xfrm>
            <a:off x="214308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ângulo 38"/>
          <p:cNvSpPr/>
          <p:nvPr/>
        </p:nvSpPr>
        <p:spPr>
          <a:xfrm>
            <a:off x="4500720" y="171468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xão recta unidireccional 40"/>
          <p:cNvCxnSpPr/>
          <p:nvPr/>
        </p:nvCxnSpPr>
        <p:spPr>
          <a:xfrm flipV="1">
            <a:off x="5285160" y="221400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Rectângulo 41"/>
          <p:cNvSpPr/>
          <p:nvPr/>
        </p:nvSpPr>
        <p:spPr>
          <a:xfrm>
            <a:off x="37148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ângulo 42"/>
          <p:cNvSpPr/>
          <p:nvPr/>
        </p:nvSpPr>
        <p:spPr>
          <a:xfrm>
            <a:off x="6000840" y="51436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ângulo 43"/>
          <p:cNvSpPr/>
          <p:nvPr/>
        </p:nvSpPr>
        <p:spPr>
          <a:xfrm>
            <a:off x="6786720" y="571500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Conexão recta unidireccional 53"/>
          <p:cNvCxnSpPr/>
          <p:nvPr/>
        </p:nvCxnSpPr>
        <p:spPr>
          <a:xfrm flipV="1">
            <a:off x="3285720" y="4214520"/>
            <a:ext cx="500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Conexão recta unidireccional 58"/>
          <p:cNvCxnSpPr/>
          <p:nvPr/>
        </p:nvCxnSpPr>
        <p:spPr>
          <a:xfrm flipH="1" flipV="1">
            <a:off x="5785560" y="428544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Conexão recta unidireccional 60"/>
          <p:cNvCxnSpPr/>
          <p:nvPr/>
        </p:nvCxnSpPr>
        <p:spPr>
          <a:xfrm flipH="1" flipV="1">
            <a:off x="7000200" y="492840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Conexão recta unidireccional 61"/>
          <p:cNvCxnSpPr/>
          <p:nvPr/>
        </p:nvCxnSpPr>
        <p:spPr>
          <a:xfrm flipH="1" flipV="1">
            <a:off x="7429320" y="550008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Conexão recta unidireccional 62"/>
          <p:cNvCxnSpPr/>
          <p:nvPr/>
        </p:nvCxnSpPr>
        <p:spPr>
          <a:xfrm flipH="1" flipV="1">
            <a:off x="3357000" y="4785480"/>
            <a:ext cx="57204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Conexão recta unidireccional 64"/>
          <p:cNvCxnSpPr/>
          <p:nvPr/>
        </p:nvCxnSpPr>
        <p:spPr>
          <a:xfrm flipV="1">
            <a:off x="2711880" y="50018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Conexão recta unidireccional 66"/>
          <p:cNvCxnSpPr/>
          <p:nvPr/>
        </p:nvCxnSpPr>
        <p:spPr>
          <a:xfrm flipV="1">
            <a:off x="1643040" y="5000040"/>
            <a:ext cx="35784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ângulo 4"/>
          <p:cNvSpPr/>
          <p:nvPr/>
        </p:nvSpPr>
        <p:spPr>
          <a:xfrm>
            <a:off x="142884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572000" y="1857240"/>
            <a:ext cx="192888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xão recta unidireccional 33"/>
          <p:cNvCxnSpPr/>
          <p:nvPr/>
        </p:nvCxnSpPr>
        <p:spPr>
          <a:xfrm flipH="1" flipV="1">
            <a:off x="5357520" y="2714040"/>
            <a:ext cx="7149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Rectângulo 34"/>
          <p:cNvSpPr/>
          <p:nvPr/>
        </p:nvSpPr>
        <p:spPr>
          <a:xfrm>
            <a:off x="192888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ângulo 36"/>
          <p:cNvSpPr/>
          <p:nvPr/>
        </p:nvSpPr>
        <p:spPr>
          <a:xfrm>
            <a:off x="35712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ângulo 37"/>
          <p:cNvSpPr/>
          <p:nvPr/>
        </p:nvSpPr>
        <p:spPr>
          <a:xfrm>
            <a:off x="178596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Rectângulo 44"/>
          <p:cNvSpPr/>
          <p:nvPr/>
        </p:nvSpPr>
        <p:spPr>
          <a:xfrm>
            <a:off x="307188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Rectângulo 46"/>
          <p:cNvSpPr/>
          <p:nvPr/>
        </p:nvSpPr>
        <p:spPr>
          <a:xfrm>
            <a:off x="42876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Conexão recta unidireccional 66"/>
          <p:cNvCxnSpPr/>
          <p:nvPr/>
        </p:nvCxnSpPr>
        <p:spPr>
          <a:xfrm flipV="1">
            <a:off x="928800" y="37144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em destaque um problema que resulta da existência de todos os outros (problema centr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, entre os restantes problemas, os que contribuem directamente para a existência do problema central (os que estão no nível imediatamente abaixo – de primeir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os problemas que contribuem directamente para a existência dos problemas do primeiro nível (problemas de segund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todos os problemas que contribuem directamente para os já colocados, até esgotar todos os problemas da list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erminais são aqueles que não têm nenhum problema a contribuir para a sua existência; são os que resolvidos e atenuados contribuem para a resolução dos que estão nos níveis acim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ode haver problemas que não constam da lista inicial, mas  que ligam a árvore e que devem ser acrescen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bifurcações devem existir no sentido descendente e nunca no sentido ascendente (no caso de haver uma situação problemática a contribuir para a existência de dois problemas, essa contribuição deve ser reduzida a uma relação causa-efeito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er apenas um problema a contribuir para a existência dum outro problema é uma situação que requer uma análise mais aprofundada (podem ter-se formulado falsos problemas, pode haver problemas que não foram considerados na lista inicial, pode haver duas formulações distintas do mesmo problem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arecer um grande número de problemas a contribuir para a existência dum só (pode haver problemas que não sejam importantes e que possam ser retirad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ficiente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erviço prestado aquém do possí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aix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lta de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ângulo 36"/>
          <p:cNvSpPr/>
          <p:nvPr/>
        </p:nvSpPr>
        <p:spPr>
          <a:xfrm>
            <a:off x="35712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ficuldade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arências n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d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2" name="Rectângulo 46"/>
          <p:cNvSpPr/>
          <p:nvPr/>
        </p:nvSpPr>
        <p:spPr>
          <a:xfrm>
            <a:off x="42876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á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soa ou grupo que possui relações com o projecto ou é afectado por ele – grupos alvo, organizações parceiras, entidades financiadoras, etc.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preciação preliminar ex-ante por parte do promotor do projecto e da equipa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, de forma participada, quais os stakeholders relevantes e envolvê-los no processo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suas perspectivas devem ser cuidadosamente consideradas  na formulação preliminar dos objectivos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ve ser um sumário, para cada um dos stakeholders identific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maior ou menor interesse na concretizaçã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contributo (positivo ou negativo) prováve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a sua importância para o sucess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grau de influência n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s efeitos prováveis do projecto para os seus interes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hecer os processos de tomada de decisão d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terminar a estratégia de participação e envolvimento dos stakeholders no processo de planeamento e avaliação – plano de comunicação com os stakeholder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partilha de informação até à sua capacitação e emancipaçã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realização de reuniões de informação, passando por sessões de trabalho e workshops e até à publicação de boletins, newsletter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42960" y="2658960"/>
          <a:ext cx="7858080" cy="320040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  <a:gridCol w="1571400"/>
                <a:gridCol w="157176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upos de stakehold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esses em j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eito do projecto sobre os seus interess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mportância para 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nfluência n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311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+ a – (muito significativo a muito pouco significativo); 5 a D (muito importante/ grande influência a desconhecid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existe uma metodologia própria aplicável, em termos gerais, a todos os campos e possibilidades da animação sociocultural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á, porém, esforços de sistematização (linhas argumentais de elaboraçã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profissionais, as equipas e as organizações têm de edificar as suas próprias formas de acção e de decidir quais as opções metodológicas a tomar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inserir os stakeholders nas células apropriada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57160" y="2786040"/>
          <a:ext cx="7215120" cy="2854440"/>
        </p:xfrm>
        <a:graphic>
          <a:graphicData uri="http://schemas.openxmlformats.org/drawingml/2006/table">
            <a:tbl>
              <a:tblPr/>
              <a:tblGrid>
                <a:gridCol w="1836720"/>
                <a:gridCol w="1235160"/>
                <a:gridCol w="1257480"/>
                <a:gridCol w="1442880"/>
                <a:gridCol w="144288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o projecto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po de participação e envolvi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ilha de inform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aboração (partilh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pacitação (transferênci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a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ção e monitor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ali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os grupos alvo percepcionam os seus problemas, que mudanças desejam e o seu raio de ac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a estratégia pensada para o projecto se adequa às necessidades sentidas e aos pontos fortes dos grupos alv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diferenças sociais dentro da população e o grau de variação da capacidade dos diferentes grupos sociais para avança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percepções do grupo alvo e as suas atitudes face aos outr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os riscos e impactes duma estratégia ou ideia de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odos os projectos têm um ambiente institucional que os envolve; há outras organizações que trabalham na mesma área de intervenção, que têm um impacte no projecto e que são afectados por este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iste num número de semi-círculos concêntricos (níveis), começando com a unidade de análise mais pequena no centr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luem-se depois as unidades (instituições e grupos relevantes), atendendo à sua proximidade geográfica do grupo alvo; são colocadas nos semi-círculos apropriados para mostrar essa maior ou menor proxim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modelo mostra ainda a posição da organização/unidade de análise em relação às instituições estatais e privadas; estas são separadas e colocadas em cada um dos lados dos semi-círculos (Estado no lado esquerdo e privados no lado direito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ois de construída a estrutura e localizadas as organizações analisam-se as ligações que existem entre elas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m-se os fluxos de recursos, informação e autor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comunica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troca informações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dá directrizes a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oferece/recebe recursos e de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de animação sociocultur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orma de exteriorização de ideias, capacidades e interpretações duma situação determinad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o resultado formalizado dum processo de reflexão que permite conhecer e apresentar as opções de intervenção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monstra uma capacidade de previsão e de antecipação a uma situação analisad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erramenta de gestão e um instrumento de trabalho em equipa que permite organizar a execução e realizar um processo de avaliação  complet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onto de partida refere-se às condições encontradas no início da elaboração do project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É preciso estudar em pormenor o conjunto de situações que motivaram e influíram na tomada de consciência da necessidade duma interven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vem analisar-se os condicionalismos positivos e negativos do ambiente envolvent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676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jecto não se pode conceber à margem da realidade da organização que o vai desenvolver; é necessário detectar os limites e as possibilidades desta para adequar o projecto à sua realidade e ponderar os conteúdos, os objectivos e as prioridades da intervençã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cesso de análise interna da organização permite-nos definir os pontos fortes e fracos dessa organização, e a tê-los em conta na elaboração, gestão e avaliação do proj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Cajó</cp:lastModifiedBy>
  <dcterms:modified xsi:type="dcterms:W3CDTF">2009-02-27T12:43:59Z</dcterms:modified>
  <cp:revision>525</cp:revision>
  <dc:subject/>
  <dc:title>Introdução às Políticas Agrárias</dc:title>
</cp:coreProperties>
</file>